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823-C87E-40CF-808F-E9B8635E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EE2-2E17-4FA5-92AE-E139A55C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9F0-4BBB-4B1D-8F18-2C3A0F65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A43-B914-4ADE-B5E3-14F69B45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968-D7FA-407E-AA9D-1441258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203-AB09-48CC-94BA-AADDBC25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A94-4D7D-433F-895B-B154F69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37E-C97D-431C-8C53-CCA337A7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46E-3123-4699-A904-4AC8043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F0C-30DD-467C-B087-7E57079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70A-3352-4837-A23B-A88FE62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4C0-B9BD-40AE-8FC6-55E1A79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BF3-4AF1-4F7A-A91B-B3A5297B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1:26:38Z</dcterms:created>
  <dc:creator>PA Department of Education</dc:creator>
  <dc:description/>
  <dc:language>en-US</dc:language>
  <cp:lastModifiedBy>PA Department of Education</cp:lastModifiedBy>
  <dcterms:modified xsi:type="dcterms:W3CDTF">2009-05-06T01:26:52Z</dcterms:modified>
  <cp:revision>1</cp:revision>
  <dc:subject/>
  <dc:title>PowerPoint Presentation</dc:title>
</cp:coreProperties>
</file>